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gif" ContentType="image/gif"/>
  <Override PartName="/ppt/media/image83.wmf" ContentType="image/x-wmf"/>
  <Override PartName="/ppt/media/image59.gif" ContentType="image/gif"/>
  <Override PartName="/ppt/media/image84.wmf" ContentType="image/x-wmf"/>
  <Override PartName="/ppt/media/image55.wmf" ContentType="image/x-wmf"/>
  <Override PartName="/ppt/media/image53.gif" ContentType="image/gif"/>
  <Override PartName="/ppt/media/image13.wmf" ContentType="image/x-wmf"/>
  <Override PartName="/ppt/media/image52.gif" ContentType="image/gif"/>
  <Override PartName="/ppt/media/image12.wmf" ContentType="image/x-wmf"/>
  <Override PartName="/ppt/media/image51.wmf" ContentType="image/x-wmf"/>
  <Override PartName="/ppt/media/image63.jpeg" ContentType="image/jpeg"/>
  <Override PartName="/ppt/media/image50.gif" ContentType="image/gif"/>
  <Override PartName="/ppt/media/image49.gif" ContentType="image/gif"/>
  <Override PartName="/ppt/media/image74.wmf" ContentType="image/x-wmf"/>
  <Override PartName="/ppt/media/image46.wmf" ContentType="image/x-wmf"/>
  <Override PartName="/ppt/media/image9.gif" ContentType="image/gif"/>
  <Override PartName="/ppt/media/image44.png" ContentType="image/png"/>
  <Override PartName="/ppt/media/image47.gif" ContentType="image/gif"/>
  <Override PartName="/ppt/media/image43.wmf" ContentType="image/x-wmf"/>
  <Override PartName="/ppt/media/image18.gif" ContentType="image/gif"/>
  <Override PartName="/ppt/media/image42.gif" ContentType="image/gif"/>
  <Override PartName="/ppt/media/image40.wmf" ContentType="image/x-wmf"/>
  <Override PartName="/ppt/media/image3.gif" ContentType="image/gif"/>
  <Override PartName="/ppt/media/image6.png" ContentType="image/png"/>
  <Override PartName="/ppt/media/image39.png" ContentType="image/png"/>
  <Override PartName="/ppt/media/image64.jpeg" ContentType="image/jpeg"/>
  <Override PartName="/ppt/media/image37.wmf" ContentType="image/x-wmf"/>
  <Override PartName="/ppt/media/image36.wmf" ContentType="image/x-wmf"/>
  <Override PartName="/ppt/media/image33.wmf" ContentType="image/x-wmf"/>
  <Override PartName="/ppt/media/image32.wmf" ContentType="image/x-wmf"/>
  <Override PartName="/ppt/media/image34.gif" ContentType="image/gif"/>
  <Override PartName="/ppt/media/image57.wmf" ContentType="image/x-wmf"/>
  <Override PartName="/ppt/media/image20.wmf" ContentType="image/x-wmf"/>
  <Override PartName="/ppt/media/image60.gif" ContentType="image/gif"/>
  <Override PartName="/ppt/media/image21.wmf" ContentType="image/x-wmf"/>
  <Override PartName="/ppt/media/image90.jpeg" ContentType="image/jpeg"/>
  <Override PartName="/ppt/media/image24.wmf" ContentType="image/x-wmf"/>
  <Override PartName="/ppt/media/image28.gif" ContentType="image/gif"/>
  <Override PartName="/ppt/media/image29.gif" ContentType="image/gif"/>
  <Override PartName="/ppt/media/image26.wmf" ContentType="image/x-wmf"/>
  <Override PartName="/ppt/media/image66.gif" ContentType="image/gif"/>
  <Override PartName="/ppt/media/image27.wmf" ContentType="image/x-wmf"/>
  <Override PartName="/ppt/media/image67.wmf" ContentType="image/x-wmf"/>
  <Override PartName="/ppt/media/image19.gif" ContentType="image/gif"/>
  <Override PartName="/ppt/media/image80.wmf" ContentType="image/x-wmf"/>
  <Override PartName="/ppt/media/image15.wmf" ContentType="image/x-wmf"/>
  <Override PartName="/ppt/media/image61.png" ContentType="image/png"/>
  <Override PartName="/ppt/media/image79.wmf" ContentType="image/x-wmf"/>
  <Override PartName="/ppt/media/image25.wmf" ContentType="image/x-wmf"/>
  <Override PartName="/ppt/media/image68.png" ContentType="image/png"/>
  <Override PartName="/ppt/media/image71.wmf" ContentType="image/x-wmf"/>
  <Override PartName="/ppt/media/image88.wmf" ContentType="image/x-wmf"/>
  <Override PartName="/ppt/media/image85.gif" ContentType="image/gif"/>
  <Override PartName="/ppt/media/image76.wmf" ContentType="image/x-wmf"/>
  <Override PartName="/ppt/media/image87.wmf" ContentType="image/x-wmf"/>
  <Override PartName="/ppt/media/image1.jpeg" ContentType="image/jpeg"/>
  <Override PartName="/ppt/media/image14.wmf" ContentType="image/x-wmf"/>
  <Override PartName="/ppt/media/image54.gif" ContentType="image/gif"/>
  <Override PartName="/ppt/media/image75.wmf" ContentType="image/x-wmf"/>
  <Override PartName="/ppt/media/image86.wmf" ContentType="image/x-wmf"/>
  <Override PartName="/ppt/media/image89.gif" ContentType="image/gif"/>
  <Override PartName="/ppt/media/image77.wmf" ContentType="image/x-wmf"/>
  <Override PartName="/ppt/media/image72.png" ContentType="image/png"/>
  <Override PartName="/ppt/media/image69.wmf" ContentType="image/x-wmf"/>
  <Override PartName="/ppt/media/image17.wmf" ContentType="image/x-wmf"/>
  <Override PartName="/ppt/media/image10.png" ContentType="image/png"/>
  <Override PartName="/ppt/media/image78.wmf" ContentType="image/x-wmf"/>
  <Override PartName="/ppt/media/image41.wmf" ContentType="image/x-wmf"/>
  <Override PartName="/ppt/media/image31.wmf" ContentType="image/x-wmf"/>
  <Override PartName="/ppt/media/image38.png" ContentType="image/png"/>
  <Override PartName="/ppt/media/image35.gif" ContentType="image/gif"/>
  <Override PartName="/ppt/media/image23.gif" ContentType="image/gif"/>
  <Override PartName="/ppt/media/image56.wmf" ContentType="image/x-wmf"/>
  <Override PartName="/ppt/media/image11.wmf" ContentType="image/x-wmf"/>
  <Override PartName="/ppt/media/image48.wmf" ContentType="image/x-wmf"/>
  <Override PartName="/ppt/media/image2.gif" ContentType="image/gif"/>
  <Override PartName="/ppt/media/image81.wmf" ContentType="image/x-wmf"/>
  <Override PartName="/ppt/media/image16.wmf" ContentType="image/x-wmf"/>
  <Override PartName="/ppt/media/image65.png" ContentType="image/png"/>
  <Override PartName="/ppt/media/image22.wmf" ContentType="image/x-wmf"/>
  <Override PartName="/ppt/media/image62.gif" ContentType="image/gif"/>
  <Override PartName="/ppt/media/image8.png" ContentType="image/png"/>
  <Override PartName="/ppt/media/image5.gif" ContentType="image/gif"/>
  <Override PartName="/ppt/media/image82.gif" ContentType="image/gif"/>
  <Override PartName="/ppt/media/image45.gif" ContentType="image/gif"/>
  <Override PartName="/ppt/media/image70.wmf" ContentType="image/x-wmf"/>
  <Override PartName="/ppt/media/image7.jpeg" ContentType="image/jpeg"/>
  <Override PartName="/ppt/media/image4.png" ContentType="image/png"/>
  <Override PartName="/ppt/media/image30.wmf" ContentType="image/x-wmf"/>
  <Override PartName="/ppt/media/image7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C3F-48A6-4FB9-9ABE-1F847A90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444-3893-4674-B47A-0D31DCAD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FD1-8577-4DE0-B062-2727BBFC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6A1-789A-4888-9E03-D3320119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8E4-B4D3-46FD-A606-00CEA7EA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003-127E-47F9-94DB-DE12911F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F68-C330-4DBC-88CD-43C062D4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F44-E5F8-4305-9087-450D7BF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F10-7538-4D8E-BBFE-3996F59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910-A4BA-48D8-B277-FC0019D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6F0-F891-49E7-BD3A-9FBFEF59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E24-CBB8-488B-83A4-D839D09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B92C-040C-4E87-998A-61DA91DB5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5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38.png"/><Relationship Id="rId6" Type="http://schemas.openxmlformats.org/officeDocument/2006/relationships/image" Target="../media/image58.gif"/><Relationship Id="rId7" Type="http://schemas.openxmlformats.org/officeDocument/2006/relationships/image" Target="../media/image59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66.gif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image" Target="../media/image2.gif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2.gif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gi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wmf"/><Relationship Id="rId3" Type="http://schemas.openxmlformats.org/officeDocument/2006/relationships/image" Target="../media/image89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8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1.4.2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有理数的除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69840" y="6048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正数除以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6760" y="14065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负数除以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47880" y="217476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零除以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84440" y="6048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9÷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1680" y="1368360"/>
            <a:ext cx="19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9)÷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44440" y="2174760"/>
            <a:ext cx="14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0÷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915160" y="1136520"/>
            <a:ext cx="259848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246720" y="2079720"/>
            <a:ext cx="1930320" cy="966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008760" y="336600"/>
            <a:ext cx="1893960" cy="1085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95720" y="3062160"/>
            <a:ext cx="391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×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=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) ÷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15800" y="65232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5480" y="14065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82000" y="22352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41600" y="63648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12560" y="14065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12600" y="23065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70080" y="30621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×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÷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5680" y="4444920"/>
            <a:ext cx="319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×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÷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8520" y="4537080"/>
            <a:ext cx="3730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除以一个正数等于乘以这个正数的倒数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04760" y="2075040"/>
            <a:ext cx="70866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理数的除法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除以一个不等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数，等于乘以这个数的倒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52560" y="4319640"/>
            <a:ext cx="37386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078000" y="739800"/>
            <a:ext cx="3838680" cy="782640"/>
            <a:chOff x="3078000" y="739800"/>
            <a:chExt cx="3838680" cy="78264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916600" y="7398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078000" y="8528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315120" y="4759200"/>
            <a:ext cx="1009440" cy="1152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06560" y="5936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63800" y="2043000"/>
            <a:ext cx="1481040" cy="84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44440" y="4495680"/>
            <a:ext cx="7196400" cy="1676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20600" y="378612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173240"/>
            <a:ext cx="4084560" cy="2163600"/>
          </a:xfrm>
          <a:prstGeom prst="wedgeRoundRectCallout">
            <a:avLst>
              <a:gd name="adj1" fmla="val -486"/>
              <a:gd name="adj2" fmla="val 124541"/>
              <a:gd name="adj3" fmla="val 16667"/>
            </a:avLst>
          </a:prstGeom>
          <a:solidFill>
            <a:srgbClr val="99cc00">
              <a:alpha val="3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数相除，两数符号相同则结果为正，两数符号不同则结果为负，并把绝对值相除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12800" y="1685880"/>
            <a:ext cx="2330640" cy="1238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57360" y="3381480"/>
            <a:ext cx="4591080" cy="1268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77960" y="5124600"/>
            <a:ext cx="749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除以任何一个不等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数都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86200" y="479520"/>
            <a:ext cx="3519360" cy="1185840"/>
            <a:chOff x="2986200" y="479520"/>
            <a:chExt cx="3519360" cy="1185840"/>
          </a:xfrm>
        </p:grpSpPr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5553000" y="47952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Cloud"/>
            <p:cNvSpPr/>
            <p:nvPr/>
          </p:nvSpPr>
          <p:spPr>
            <a:xfrm>
              <a:off x="2986200" y="47952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506760" y="63180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962760" y="2027160"/>
            <a:ext cx="1252440" cy="1930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1695600"/>
            <a:ext cx="813276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理数除法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数相除，同号得正，异号得负，并把绝对值相除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除以任何一个不等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数都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73480" y="760320"/>
            <a:ext cx="3838680" cy="782640"/>
            <a:chOff x="3273480" y="760320"/>
            <a:chExt cx="3838680" cy="78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112080" y="7603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273480" y="87336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38080" y="493236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03480" y="2305080"/>
            <a:ext cx="3213000" cy="3890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79800" y="23050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79800" y="324324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6320" y="42512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834080" y="5319720"/>
            <a:ext cx="4442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117440" y="585720"/>
            <a:ext cx="2621160" cy="852480"/>
            <a:chOff x="1117440" y="585720"/>
            <a:chExt cx="2621160" cy="852480"/>
          </a:xfrm>
        </p:grpSpPr>
        <p:sp>
          <p:nvSpPr>
            <p:cNvPr id="170" name=""/>
            <p:cNvSpPr/>
            <p:nvPr/>
          </p:nvSpPr>
          <p:spPr>
            <a:xfrm>
              <a:off x="1585800" y="644400"/>
              <a:ext cx="215280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1117440" y="585720"/>
              <a:ext cx="77652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1044720" y="1508040"/>
            <a:ext cx="22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973840" y="843120"/>
            <a:ext cx="1888920" cy="397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9240" y="609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化简下列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1366920" cy="2078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976400" y="3860640"/>
            <a:ext cx="6110280" cy="2005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66840" y="4019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05560" y="2276640"/>
            <a:ext cx="3300480" cy="1385640"/>
          </a:xfrm>
          <a:prstGeom prst="wedgeRoundRectCallout">
            <a:avLst>
              <a:gd name="adj1" fmla="val -6518"/>
              <a:gd name="adj2" fmla="val 142898"/>
              <a:gd name="adj3" fmla="val 16667"/>
            </a:avLst>
          </a:prstGeom>
          <a:solidFill>
            <a:srgbClr val="99cc00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分数可以理解为分子除以分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124760" y="514440"/>
            <a:ext cx="1181160" cy="134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6760" y="9748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266840" y="1960560"/>
            <a:ext cx="4570560" cy="3137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50040" y="1960560"/>
            <a:ext cx="3139920" cy="1401840"/>
          </a:xfrm>
          <a:prstGeom prst="wedgeRoundRectCallout">
            <a:avLst>
              <a:gd name="adj1" fmla="val -44740"/>
              <a:gd name="adj2" fmla="val 104925"/>
              <a:gd name="adj3" fmla="val 16667"/>
            </a:avLst>
          </a:prstGeom>
          <a:solidFill>
            <a:srgbClr val="99cc00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乘除法混合运算，统一成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49960" y="182520"/>
            <a:ext cx="2178000" cy="1584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41440" y="5721480"/>
            <a:ext cx="7619760" cy="58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36840" y="887400"/>
            <a:ext cx="4025880" cy="5251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70840" y="655560"/>
            <a:ext cx="1752480" cy="1428840"/>
          </a:xfrm>
          <a:prstGeom prst="borderCallout2">
            <a:avLst>
              <a:gd name="adj1" fmla="val 18750"/>
              <a:gd name="adj2" fmla="val -8333"/>
              <a:gd name="adj3" fmla="val 8000"/>
              <a:gd name="adj4" fmla="val -67481"/>
              <a:gd name="adj5" fmla="val 141888"/>
              <a:gd name="adj6" fmla="val -133060"/>
            </a:avLst>
          </a:prstGeom>
          <a:solidFill>
            <a:srgbClr val="99cc00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括号的先算括号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2878200"/>
            <a:ext cx="1531800" cy="1190520"/>
          </a:xfrm>
          <a:prstGeom prst="borderCallout2">
            <a:avLst>
              <a:gd name="adj1" fmla="val 18750"/>
              <a:gd name="adj2" fmla="val -8333"/>
              <a:gd name="adj3" fmla="val 9601"/>
              <a:gd name="adj4" fmla="val -49328"/>
              <a:gd name="adj5" fmla="val 88532"/>
              <a:gd name="adj6" fmla="val -93472"/>
            </a:avLst>
          </a:prstGeom>
          <a:solidFill>
            <a:srgbClr val="99cc00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算乘再算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18200" y="4843440"/>
            <a:ext cx="1297080" cy="1295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42880" y="1098720"/>
            <a:ext cx="4611960" cy="3198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257800" y="4297320"/>
            <a:ext cx="2544840" cy="129528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20773"/>
              <a:gd name="adj5" fmla="val -118750"/>
              <a:gd name="adj6" fmla="val -39115"/>
            </a:avLst>
          </a:prstGeom>
          <a:solidFill>
            <a:srgbClr val="99cc00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无括号，只有乘除，从左向右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26240" y="1589040"/>
            <a:ext cx="2152800" cy="1565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76160" y="4968720"/>
            <a:ext cx="1679760" cy="1247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0360" y="4505400"/>
            <a:ext cx="48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讨论两数相除的例子有哪些情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58880" y="243000"/>
            <a:ext cx="2849400" cy="1709640"/>
            <a:chOff x="3458880" y="243000"/>
            <a:chExt cx="2849400" cy="1709640"/>
          </a:xfrm>
        </p:grpSpPr>
        <p:sp>
          <p:nvSpPr>
            <p:cNvPr id="44" name="filecab3"/>
            <p:cNvSpPr/>
            <p:nvPr/>
          </p:nvSpPr>
          <p:spPr>
            <a:xfrm rot="10800000">
              <a:off x="3458880" y="1114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6640" y="24300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82480" y="3492360"/>
            <a:ext cx="2129040" cy="2203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22440" y="2389320"/>
            <a:ext cx="4541760" cy="1477800"/>
          </a:xfrm>
          <a:prstGeom prst="wedgeRoundRectCallout">
            <a:avLst>
              <a:gd name="adj1" fmla="val -51504"/>
              <a:gd name="adj2" fmla="val 78032"/>
              <a:gd name="adj3" fmla="val 1666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小学是怎样进行除法运算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08640" y="5219640"/>
            <a:ext cx="123840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11120" y="1066680"/>
            <a:ext cx="5823000" cy="4165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508800" y="3787920"/>
            <a:ext cx="1752480" cy="1444320"/>
          </a:xfrm>
          <a:prstGeom prst="borderCallout2">
            <a:avLst>
              <a:gd name="adj1" fmla="val 18750"/>
              <a:gd name="adj2" fmla="val -8333"/>
              <a:gd name="adj3" fmla="val 7912"/>
              <a:gd name="adj4" fmla="val -59689"/>
              <a:gd name="adj5" fmla="val -67583"/>
              <a:gd name="adj6" fmla="val -116847"/>
            </a:avLst>
          </a:prstGeom>
          <a:solidFill>
            <a:srgbClr val="99cc00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先把带分数化为假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517920" y="428004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76400" y="2205000"/>
            <a:ext cx="7086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理数的加减乘除混合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有括号的先算括号里的，无括号则按照“先乘除，后加减”的顺序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16080" y="900000"/>
            <a:ext cx="3838680" cy="782640"/>
            <a:chOff x="3016080" y="900000"/>
            <a:chExt cx="3838680" cy="78264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5854680" y="9000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016080" y="10130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734000" y="5310360"/>
            <a:ext cx="2759040" cy="938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22222E-006 -2.59259E-006 L -0.46528 -2.59259E-006 E">
                                      <p:cBhvr>
                                        <p:cTn id="94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19280" y="1711440"/>
            <a:ext cx="77691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因为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倒数，所以，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能作除数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在除法运算中，符号的确定与乘法运算一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遇到乘除法混合运算时，应按照从左到右的顺序进行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遇到求带分数的倒数时，先将带分数化为假分数，再求其倒数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78000" y="423720"/>
            <a:ext cx="3795840" cy="1833840"/>
            <a:chOff x="3078000" y="423720"/>
            <a:chExt cx="3795840" cy="183384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040360" y="423720"/>
              <a:ext cx="1833480" cy="18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File"/>
            <p:cNvSpPr/>
            <p:nvPr/>
          </p:nvSpPr>
          <p:spPr>
            <a:xfrm>
              <a:off x="3078000" y="455760"/>
              <a:ext cx="2041560" cy="833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cc3300"/>
                </a:gs>
                <a:gs pos="100000">
                  <a:srgbClr val="0000ff"/>
                </a:gs>
              </a:gsLst>
              <a:lin ang="5400000"/>
            </a:gradFill>
            <a:ln w="25560">
              <a:solidFill>
                <a:srgbClr val="0000ff"/>
              </a:solidFill>
              <a:miter/>
            </a:ln>
            <a:effectLst>
              <a:outerShdw dist="143570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注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8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8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00160" y="2468520"/>
            <a:ext cx="4765680" cy="327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505560" y="2519280"/>
            <a:ext cx="749160" cy="876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505560" y="3710160"/>
            <a:ext cx="268200" cy="882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353280" y="49928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43000" y="527040"/>
            <a:ext cx="2620440" cy="852480"/>
            <a:chOff x="1143000" y="527040"/>
            <a:chExt cx="2620440" cy="852480"/>
          </a:xfrm>
        </p:grpSpPr>
        <p:sp>
          <p:nvSpPr>
            <p:cNvPr id="210" name=""/>
            <p:cNvSpPr/>
            <p:nvPr/>
          </p:nvSpPr>
          <p:spPr>
            <a:xfrm>
              <a:off x="1611000" y="5857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1143000" y="5270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100160" y="161280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254720" y="285840"/>
            <a:ext cx="1686240" cy="1685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4735440" y="669960"/>
            <a:ext cx="1130400" cy="129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3120" y="9698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为提醒广大市民做好防冻御寒工作，下列为某地区一周内最低气温预报。具体气温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47560" y="2624040"/>
          <a:ext cx="8381880" cy="1051200"/>
        </p:xfrm>
        <a:graphic>
          <a:graphicData uri="http://schemas.openxmlformats.org/drawingml/2006/table">
            <a:tbl>
              <a:tblPr/>
              <a:tblGrid>
                <a:gridCol w="1210320"/>
                <a:gridCol w="1117800"/>
                <a:gridCol w="1023840"/>
                <a:gridCol w="931320"/>
                <a:gridCol w="1025640"/>
                <a:gridCol w="1023840"/>
                <a:gridCol w="1025640"/>
                <a:gridCol w="102348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星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气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-2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-5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0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-4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-3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-3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571680" y="3757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求本周的平均最低气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724280"/>
            <a:ext cx="589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495680"/>
            <a:ext cx="762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〔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0 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÷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＝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÷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＝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48360" y="5181480"/>
            <a:ext cx="1523880" cy="1238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47880" y="674640"/>
            <a:ext cx="74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今抽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袋精盐，每袋精盐的标准重量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，超出部分记为正，统计成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5520" y="2459160"/>
          <a:ext cx="8180280" cy="2341440"/>
        </p:xfrm>
        <a:graphic>
          <a:graphicData uri="http://schemas.openxmlformats.org/drawingml/2006/table">
            <a:tbl>
              <a:tblPr/>
              <a:tblGrid>
                <a:gridCol w="1363680"/>
                <a:gridCol w="1363680"/>
                <a:gridCol w="1363680"/>
                <a:gridCol w="1361880"/>
                <a:gridCol w="1363680"/>
                <a:gridCol w="1363680"/>
              </a:tblGrid>
              <a:tr h="91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盐的袋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袋超出标准的克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1104840" y="5178600"/>
            <a:ext cx="60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：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袋盐一共有多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97520" y="1200240"/>
            <a:ext cx="7036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×1.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0×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00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袋盐一共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00.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776920" y="3065400"/>
            <a:ext cx="2725560" cy="272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693800" y="4392720"/>
            <a:ext cx="2698920" cy="1398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15880" y="2665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0" t="0" r="0" b="147"/>
          <a:stretch/>
        </p:blipFill>
        <p:spPr>
          <a:xfrm>
            <a:off x="5149800" y="1965240"/>
            <a:ext cx="2328840" cy="3894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rcRect l="0" t="0" r="234" b="0"/>
          <a:stretch/>
        </p:blipFill>
        <p:spPr>
          <a:xfrm>
            <a:off x="1257480" y="2017800"/>
            <a:ext cx="2712960" cy="3884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57480" y="677880"/>
            <a:ext cx="72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以用计算器进行复杂的数的计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93280" y="1370160"/>
            <a:ext cx="65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.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×1.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25640" y="59688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：用计算器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215120" y="2435400"/>
            <a:ext cx="1928880" cy="3186000"/>
            <a:chOff x="7215120" y="2435400"/>
            <a:chExt cx="1928880" cy="318600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0" t="0" r="0" b="147"/>
            <a:stretch/>
          </p:blipFill>
          <p:spPr>
            <a:xfrm>
              <a:off x="7239240" y="2435400"/>
              <a:ext cx="1904760" cy="31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215120" y="3978360"/>
              <a:ext cx="503280" cy="152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143000" y="22305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用带符号键           的计算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51200" y="2260440"/>
            <a:ext cx="914400" cy="42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8720" y="3532320"/>
            <a:ext cx="3970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3532320"/>
            <a:ext cx="3970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19200" y="3532320"/>
            <a:ext cx="3970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25720" y="348624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92720" y="348624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63920" y="3502080"/>
            <a:ext cx="84276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45280" y="34797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16440" y="350208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35480" y="350208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81600" y="350208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65800" y="34797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56480" y="350208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72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6920" y="404172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5736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4944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2572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88080" y="3532320"/>
            <a:ext cx="3967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6880" y="4127400"/>
            <a:ext cx="3967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94080" y="404172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384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08560" y="407988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6580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4840" y="4079880"/>
            <a:ext cx="396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06680" y="4057560"/>
            <a:ext cx="84312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56480" y="4057560"/>
            <a:ext cx="4111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87360" y="4844880"/>
            <a:ext cx="10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772080" y="51721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2695680"/>
            <a:ext cx="7147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72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÷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6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2640" y="1762200"/>
            <a:ext cx="38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计算器计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73960" y="26956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41440" y="3313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56480" y="393696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4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60400" y="47480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09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057320" y="558720"/>
            <a:ext cx="2620440" cy="852480"/>
            <a:chOff x="1057320" y="558720"/>
            <a:chExt cx="2620440" cy="852480"/>
          </a:xfrm>
        </p:grpSpPr>
        <p:sp>
          <p:nvSpPr>
            <p:cNvPr id="273" name=""/>
            <p:cNvSpPr/>
            <p:nvPr/>
          </p:nvSpPr>
          <p:spPr>
            <a:xfrm>
              <a:off x="1525320" y="6174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1057320" y="5587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861160" y="739800"/>
            <a:ext cx="1879560" cy="1566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85800" y="5748480"/>
            <a:ext cx="7229520" cy="55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46040" y="7635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除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4240" y="747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9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4600" y="15177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除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4240" y="15177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9)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52520" y="22510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零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除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4240" y="2263680"/>
            <a:ext cx="16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0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46040" y="2843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除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66960" y="2843280"/>
            <a:ext cx="14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9÷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0200" y="35496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除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46800" y="3635280"/>
            <a:ext cx="21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9)÷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46040" y="43704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零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除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66960" y="4370400"/>
            <a:ext cx="14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0÷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04800" y="54007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　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能否做除数</a:t>
            </a: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92600" y="5432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06880" y="885960"/>
            <a:ext cx="1006560" cy="336240"/>
          </a:xfrm>
          <a:prstGeom prst="rightArrow">
            <a:avLst>
              <a:gd name="adj1" fmla="val 50000"/>
              <a:gd name="adj2" fmla="val 7483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91040" y="1633680"/>
            <a:ext cx="1006560" cy="336240"/>
          </a:xfrm>
          <a:prstGeom prst="rightArrow">
            <a:avLst>
              <a:gd name="adj1" fmla="val 50000"/>
              <a:gd name="adj2" fmla="val 7483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374920"/>
            <a:ext cx="1006560" cy="336600"/>
          </a:xfrm>
          <a:prstGeom prst="rightArrow">
            <a:avLst>
              <a:gd name="adj1" fmla="val 50000"/>
              <a:gd name="adj2" fmla="val 7475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6480" y="3038400"/>
            <a:ext cx="1006560" cy="336600"/>
          </a:xfrm>
          <a:prstGeom prst="rightArrow">
            <a:avLst>
              <a:gd name="adj1" fmla="val 50000"/>
              <a:gd name="adj2" fmla="val 7475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52960" y="3762360"/>
            <a:ext cx="1006560" cy="336600"/>
          </a:xfrm>
          <a:prstGeom prst="rightArrow">
            <a:avLst>
              <a:gd name="adj1" fmla="val 50000"/>
              <a:gd name="adj2" fmla="val 7475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38560" y="4565520"/>
            <a:ext cx="1006560" cy="336600"/>
          </a:xfrm>
          <a:prstGeom prst="rightArrow">
            <a:avLst>
              <a:gd name="adj1" fmla="val 50000"/>
              <a:gd name="adj2" fmla="val 7475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621560" y="612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1709640"/>
            <a:ext cx="7696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有理数除法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有理数除法法则：两数相除，同号得正，异号得负，并把绝对值相除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除以任何一个不等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数都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有理数的加减乘除混合运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如有括号的先算括号里的，无括号则按照“先乘除，后加减”的顺序进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201760" y="2225520"/>
            <a:ext cx="3721320" cy="87660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3111120" y="0"/>
            <a:ext cx="2849400" cy="1709640"/>
            <a:chOff x="3111120" y="0"/>
            <a:chExt cx="2849400" cy="1709640"/>
          </a:xfrm>
        </p:grpSpPr>
        <p:sp>
          <p:nvSpPr>
            <p:cNvPr id="280" name="filecab3"/>
            <p:cNvSpPr/>
            <p:nvPr/>
          </p:nvSpPr>
          <p:spPr>
            <a:xfrm rot="10800000">
              <a:off x="311112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372888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7391520" y="960480"/>
            <a:ext cx="1265040" cy="126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2" dur="2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55560" y="1890720"/>
            <a:ext cx="70707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= 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          没有意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= 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          的值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= 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           没有意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560840" y="2627280"/>
            <a:ext cx="979560" cy="981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506840" y="3719520"/>
            <a:ext cx="938160" cy="952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486320" y="4703760"/>
            <a:ext cx="1073160" cy="1130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695680" y="23367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68560" y="38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1800" y="481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68560" y="27860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68200" y="-33480"/>
            <a:ext cx="2849400" cy="1709640"/>
            <a:chOff x="2968200" y="-33480"/>
            <a:chExt cx="2849400" cy="1709640"/>
          </a:xfrm>
        </p:grpSpPr>
        <p:sp>
          <p:nvSpPr>
            <p:cNvPr id="292" name="filecab3"/>
            <p:cNvSpPr/>
            <p:nvPr/>
          </p:nvSpPr>
          <p:spPr>
            <a:xfrm rot="10800000">
              <a:off x="2968200" y="8377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3585960" y="-3348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7164360" y="1398600"/>
            <a:ext cx="1122480" cy="1122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09800" y="694440"/>
            <a:ext cx="7951680" cy="4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说法正确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负数没有倒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正数的倒数比自身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任何有理数都有倒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倒数是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运算结果不一定为负数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异号两数相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异号两数相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异号两数相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奇数个负因数的乘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2040" y="792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10280" y="3652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203960" y="17589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557360" y="2041560"/>
            <a:ext cx="1454040" cy="1158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257800" y="1957320"/>
            <a:ext cx="1546200" cy="1163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1649520" y="4238640"/>
            <a:ext cx="1574640" cy="1197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450040" y="3935520"/>
            <a:ext cx="1353960" cy="1603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222200" y="753480"/>
            <a:ext cx="51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化简下列分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84080" y="230652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7000" y="4478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44800" y="423864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405560" y="2071800"/>
            <a:ext cx="719280" cy="1128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6611760" y="754200"/>
            <a:ext cx="1587600" cy="104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1095480" y="447840"/>
            <a:ext cx="7603920" cy="2703600"/>
            <a:chOff x="1095480" y="447840"/>
            <a:chExt cx="7603920" cy="2703600"/>
          </a:xfrm>
        </p:grpSpPr>
        <p:sp>
          <p:nvSpPr>
            <p:cNvPr id="310" name=""/>
            <p:cNvSpPr/>
            <p:nvPr/>
          </p:nvSpPr>
          <p:spPr>
            <a:xfrm>
              <a:off x="1095480" y="714240"/>
              <a:ext cx="7603920" cy="24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已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︱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︱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5,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︱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︱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且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&lt;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求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b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值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6954840" y="447840"/>
              <a:ext cx="600120" cy="12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5538960" y="179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±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66680" y="2485800"/>
            <a:ext cx="8008920" cy="2279880"/>
            <a:chOff x="1066680" y="2485800"/>
            <a:chExt cx="8008920" cy="2279880"/>
          </a:xfrm>
        </p:grpSpPr>
        <p:sp>
          <p:nvSpPr>
            <p:cNvPr id="314" name=""/>
            <p:cNvSpPr/>
            <p:nvPr/>
          </p:nvSpPr>
          <p:spPr>
            <a:xfrm>
              <a:off x="1066680" y="2485800"/>
              <a:ext cx="800892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已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互为相反数，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互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倒数，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绝对值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求　　　　　　　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2571840" y="3938760"/>
              <a:ext cx="313848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2077920" y="4765680"/>
            <a:ext cx="52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，原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2 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，原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2 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458640" y="434340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746080" y="101520"/>
            <a:ext cx="2849400" cy="1709640"/>
            <a:chOff x="2746080" y="101520"/>
            <a:chExt cx="2849400" cy="1709640"/>
          </a:xfrm>
        </p:grpSpPr>
        <p:sp>
          <p:nvSpPr>
            <p:cNvPr id="319" name="filecab3"/>
            <p:cNvSpPr/>
            <p:nvPr/>
          </p:nvSpPr>
          <p:spPr>
            <a:xfrm rot="10800000">
              <a:off x="2746080" y="9727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3363840" y="10152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"/>
          <p:cNvGrpSpPr/>
          <p:nvPr/>
        </p:nvGrpSpPr>
        <p:grpSpPr>
          <a:xfrm>
            <a:off x="1365120" y="2300400"/>
            <a:ext cx="7056720" cy="3778200"/>
            <a:chOff x="1365120" y="2300400"/>
            <a:chExt cx="7056720" cy="3778200"/>
          </a:xfrm>
        </p:grpSpPr>
        <p:sp>
          <p:nvSpPr>
            <p:cNvPr id="322" name=""/>
            <p:cNvSpPr/>
            <p:nvPr/>
          </p:nvSpPr>
          <p:spPr>
            <a:xfrm>
              <a:off x="1365120" y="2300400"/>
              <a:ext cx="7056720" cy="25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.1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3"/>
            <a:stretch/>
          </p:blipFill>
          <p:spPr>
            <a:xfrm>
              <a:off x="1924200" y="3348000"/>
              <a:ext cx="547344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1924200" y="4097160"/>
              <a:ext cx="4775040" cy="198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7397640" y="118584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054080" y="514440"/>
            <a:ext cx="5340240" cy="18478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068480" y="2362320"/>
            <a:ext cx="6715080" cy="3493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6865920" y="528480"/>
            <a:ext cx="1833480" cy="183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095480" y="716040"/>
            <a:ext cx="7305480" cy="2014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93600" y="274644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有理数并不都小于它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如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于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中的式子都成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它们可以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出：分子、分母以及分数这三者的符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其中两个，分数的值不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122720" y="716040"/>
            <a:ext cx="4476600" cy="457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36480" y="2525760"/>
            <a:ext cx="79898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有理数除法法则、会进行有理数的除法运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求有理数的倒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通过有理数除法的学习，培养观察、归纳、概括、运算及逆向思维能力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72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61440" y="433440"/>
            <a:ext cx="1064880" cy="1065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941200" y="111240"/>
            <a:ext cx="2849400" cy="1709640"/>
            <a:chOff x="2941200" y="111240"/>
            <a:chExt cx="2849400" cy="1709640"/>
          </a:xfrm>
        </p:grpSpPr>
        <p:sp>
          <p:nvSpPr>
            <p:cNvPr id="76" name="filecab3"/>
            <p:cNvSpPr/>
            <p:nvPr/>
          </p:nvSpPr>
          <p:spPr>
            <a:xfrm rot="10800000">
              <a:off x="2941200" y="9824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3558960" y="1112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868320" y="2529000"/>
            <a:ext cx="72691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情感态度与价值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思索、判断，培养自己对数学能力的自信心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54560" y="5029200"/>
            <a:ext cx="3173400" cy="8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5560" y="502920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7124760" y="720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95480" y="1949400"/>
            <a:ext cx="460692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理数除法法则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商的符号的确定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作除数的理解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610000" y="7920"/>
            <a:ext cx="3551040" cy="1692360"/>
            <a:chOff x="2610000" y="7920"/>
            <a:chExt cx="3551040" cy="1692360"/>
          </a:xfrm>
        </p:grpSpPr>
        <p:sp>
          <p:nvSpPr>
            <p:cNvPr id="84" name="filecab3"/>
            <p:cNvSpPr/>
            <p:nvPr/>
          </p:nvSpPr>
          <p:spPr>
            <a:xfrm rot="10800000">
              <a:off x="2610000" y="861840"/>
              <a:ext cx="355104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598920" y="7920"/>
              <a:ext cx="1618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602400" y="1949400"/>
            <a:ext cx="1795320" cy="2622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840" y="184464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很快地说出下列各数的倒数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6040" y="3470400"/>
          <a:ext cx="7802280" cy="1728720"/>
        </p:xfrm>
        <a:graphic>
          <a:graphicData uri="http://schemas.openxmlformats.org/drawingml/2006/table">
            <a:tbl>
              <a:tblPr/>
              <a:tblGrid>
                <a:gridCol w="1114560"/>
                <a:gridCol w="1114560"/>
                <a:gridCol w="1114560"/>
                <a:gridCol w="1114560"/>
                <a:gridCol w="1114560"/>
                <a:gridCol w="1114560"/>
                <a:gridCol w="1114920"/>
              </a:tblGrid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81320" y="3390840"/>
            <a:ext cx="638280" cy="98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91320" y="3398760"/>
            <a:ext cx="78444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02120" y="4319640"/>
            <a:ext cx="606240" cy="9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974960" y="4267080"/>
            <a:ext cx="820800" cy="98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387680" y="4319640"/>
            <a:ext cx="384480" cy="988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365720"/>
            <a:ext cx="1108080" cy="833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08800" y="44784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7688160" y="4319640"/>
            <a:ext cx="573120" cy="9367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317600" y="314280"/>
            <a:ext cx="4915080" cy="1344600"/>
            <a:chOff x="1317600" y="314280"/>
            <a:chExt cx="4915080" cy="1344600"/>
          </a:xfrm>
        </p:grpSpPr>
        <p:sp>
          <p:nvSpPr>
            <p:cNvPr id="98" name="desk1"/>
            <p:cNvSpPr/>
            <p:nvPr/>
          </p:nvSpPr>
          <p:spPr>
            <a:xfrm>
              <a:off x="1317600" y="754200"/>
              <a:ext cx="2719440" cy="904680"/>
            </a:xfrm>
            <a:prstGeom prst="pie">
              <a:avLst/>
            </a:prstGeom>
            <a:solidFill>
              <a:srgbClr val="ff00ff">
                <a:alpha val="42000"/>
              </a:srgbClr>
            </a:solidFill>
            <a:ln w="9360">
              <a:solidFill>
                <a:srgbClr val="3366ff"/>
              </a:solidFill>
              <a:miter/>
            </a:ln>
            <a:effectLst>
              <a:outerShdw dist="153753" dir="2700000" blurRad="0" rotWithShape="0">
                <a:srgbClr val="ff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知识回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4765680" y="314280"/>
              <a:ext cx="1467000" cy="13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7591320" y="4395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1400" y="6494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数除以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0120" y="15699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数除以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41400" y="24336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除以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63840" y="5889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15447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28920" y="2449440"/>
            <a:ext cx="16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799240" y="1208160"/>
            <a:ext cx="1780920" cy="1187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75200" y="2144880"/>
            <a:ext cx="1225800" cy="118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51440" y="271440"/>
            <a:ext cx="1225800" cy="1187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1800" y="345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×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 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5400" y="4243320"/>
            <a:ext cx="40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)÷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 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040" y="5460840"/>
            <a:ext cx="7264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除以一个正数等于乘以这个正数的倒数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25760" y="6015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27440" y="15764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54400" y="24494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9760" y="592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21400" y="1544760"/>
            <a:ext cx="14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62840" y="2481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62400" y="3970440"/>
            <a:ext cx="2719440" cy="1077840"/>
          </a:xfrm>
          <a:prstGeom prst="wedgeRoundRectCallout">
            <a:avLst>
              <a:gd name="adj1" fmla="val -75453"/>
              <a:gd name="adj2" fmla="val -20837"/>
              <a:gd name="adj3" fmla="val 16667"/>
            </a:avLst>
          </a:prstGeom>
          <a:solidFill>
            <a:srgbClr val="99cc00">
              <a:alpha val="44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除法是乘法的逆运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997760" y="291960"/>
            <a:ext cx="952560" cy="714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0:51:13Z</dcterms:created>
  <dc:creator/>
  <dc:description/>
  <dc:language>en-US</dc:language>
  <cp:lastModifiedBy>微软用户</cp:lastModifiedBy>
  <dcterms:modified xsi:type="dcterms:W3CDTF">2014-06-30T00:59:20Z</dcterms:modified>
  <cp:revision>51</cp:revision>
  <dc:subject/>
  <dc:title>1.4.2 有理数的除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c0000000000010250600207f7000400038000</vt:lpwstr>
  </property>
</Properties>
</file>